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D9D-AC9D-4D73-91E6-6C223CBE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890-7C23-4FB6-B911-C6E74409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E64-967E-42C1-A157-534DA574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5AB-F564-48F5-AFB0-C23CB2A0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CCE-970D-4977-82CB-6A856C26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6BBD-E7B5-46C8-AC86-840C3C0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7F42-16BC-4443-99DC-AB11B72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593A-5F0F-4159-8DCE-AA5B6F22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C865-D29D-4862-A472-6F4DF3DC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8FB6-182B-4C35-88A0-9354BAF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9911-A43D-4880-BB67-A82548F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3FD-24F8-468B-8144-9554F215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B52-C632-4A67-A2C3-0EF87DE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2859-BAC9-42F0-9434-AB0C98A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053-EFA7-4D48-997A-BDE4352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BAB1-2993-447D-8AA0-F5672A42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1917-285E-40FD-A210-37BFDD5B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9612-3779-4115-8D39-FEEAD04B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6A43-F927-4146-8D7E-18B18C91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C5AA-7D66-4EF5-9E53-AD7EE7E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217C-D4B6-4AFF-A4D8-959AF0B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5740-0832-4242-BA4E-2D7DEBE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B8-DB8E-425B-8375-A0F86FF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04D8-4523-4390-9C3B-F7DC51E5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5019-B016-4DBD-B9F8-B433CFA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BAC7-BA7D-467A-9E27-8CCDB11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37E6-01F8-4C50-A7BA-8D8BB97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680E-427F-478C-A786-AF0C4B19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E717-67FD-4542-9912-CDA91ADF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2D5A-0047-4217-92EA-1074C8B9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5752-3DEC-4F85-A16B-7F638EC6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0FC3-155D-4E2F-9C2B-3E94083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4788-F923-4C22-8C71-B9A652C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A8E-43DE-4C6E-862A-35945404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150B-748E-4F75-9C9C-FDA73CA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A1C2-7B46-4DA1-95ED-7D676ED8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D3B0-65F4-4C3D-AF9E-D7C0292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1308-C138-4AAA-A2ED-8658571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6E63-D01E-432F-9155-ABB1425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C2CB-FEDD-47B6-9262-ED099F1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643C-6A46-4F30-89FE-DF3F830B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B4AA-3FC5-4F80-AA50-6CBC2787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8392-F729-4FAF-99BA-885CEB7E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61F6-7EC6-4876-9693-88DE23D9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819-39A2-475A-92C9-EBC74C33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AA38-E41E-4CEF-ACE4-3D48C69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80D4-7544-42D1-8FB5-0E0C9BC6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C007-D39D-4BAC-8A85-F4E02D7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9DEC-D7E2-457F-A6BC-0AAD8452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68A7-53B4-4FAD-B1AF-582B633A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AC44-C594-4374-9EE3-FAF8090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BE94-F2EB-4713-A507-3764475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6021-A7DF-41B8-9D28-2EF666F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DFD62-4748-442D-AF2D-DAD8FE7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C6A8D-3EAD-458E-BF62-A76F9421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19C-F5C2-48A1-B5F8-EA5F148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BEF4-682B-47A6-AD3A-AD85623C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CA9FA-8250-448B-A5AE-C5AA39AE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03D80-13C1-4F22-93CC-2F995F6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D3840-02C3-4936-B6A8-6C61CB6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9FB6F-810C-4B10-9D53-BC1D0D0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E4970-C960-4893-A9F2-1232A7C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E57AB-B2CC-4D17-93D0-09C9298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2675E-6EC0-4A33-A70E-A6D0276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459F1-B550-447C-95D9-5F0D845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70BD9-1B15-44A1-847B-A01DE98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8C0-BBED-4007-96FC-003DF51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4776A-FFA4-477F-94B9-E12E99F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E856E-D872-466A-8519-C9D6B3B2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3D29A-A6BF-464B-BF7F-D5843E1F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2779-0F85-4056-902D-55713E1C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486D-03B9-4A2B-9F6E-ADCF8F7D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F738-CB4A-44B7-954E-51D8597A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9622D-41CD-4588-B455-3308D07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23CA9-619D-4248-BD75-887141B9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275DC-B919-491B-8A96-23F6912F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14C8F-5F4D-4D61-BD6B-F613B3B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A30-DBA4-455E-AE3D-4FFAF0B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7A1CE-A063-4665-A985-ED041C3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03AC8-7486-495C-BDDA-A194FCA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EECD-3B9C-4E93-8F54-81CB923F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712F-E682-40E9-80CC-C7D1583E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60AF-35EA-406C-AE5E-5B25ADA5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9A8-00B9-44EA-99EF-EEF3C2C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4A7-8D80-4B6B-8DF2-339F1768F34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4161-D907-4E94-AB0D-F40B72338967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113-F0B4-4110-A8B1-B1D2D5DA2CE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553-3E3A-4E84-88CD-0F098152C56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671A-11BC-49E1-ABD3-757363E3570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1BAA-74D4-4202-A901-4DA27B86F98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DAF3-9CF3-4FC7-AE18-F6687A3CDD1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ing Plant and Animal Cells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4" descr="plant cell"/>
          <p:cNvPicPr/>
          <p:nvPr/>
        </p:nvPicPr>
        <p:blipFill>
          <a:blip r:embed="rId1"/>
          <a:stretch/>
        </p:blipFill>
        <p:spPr>
          <a:xfrm>
            <a:off x="1143000" y="1066680"/>
            <a:ext cx="1625760" cy="1346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animal cell"/>
          <p:cNvPicPr/>
          <p:nvPr/>
        </p:nvPicPr>
        <p:blipFill>
          <a:blip r:embed="rId2"/>
          <a:stretch/>
        </p:blipFill>
        <p:spPr>
          <a:xfrm>
            <a:off x="6629400" y="99072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more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store energy from food in ATP molecules. When the cell needs energy, the ATP is broken down to releas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6" name="Picture 4" descr="atp"/>
          <p:cNvPicPr/>
          <p:nvPr/>
        </p:nvPicPr>
        <p:blipFill>
          <a:blip r:embed="rId1"/>
          <a:stretch/>
        </p:blipFill>
        <p:spPr>
          <a:xfrm>
            <a:off x="2743200" y="3352680"/>
            <a:ext cx="3733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Using Inform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is the control center of plant and animal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contains DN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and RNA molecules work together to make proteins.  Cells require thousands of protein molecules in order to work well. (Central Dogma!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9" name="Picture 4" descr="protein"/>
          <p:cNvPicPr/>
          <p:nvPr/>
        </p:nvPicPr>
        <p:blipFill>
          <a:blip r:embed="rId1"/>
          <a:stretch/>
        </p:blipFill>
        <p:spPr>
          <a:xfrm>
            <a:off x="2971800" y="5257800"/>
            <a:ext cx="3581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NA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in a cell’s nucleus determines what kind of cell it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has instructions for all of the cell</a:t>
            </a:r>
            <a:r>
              <a:rPr b="0" lang="ja-JP" sz="2400" spc="-1" strike="noStrike">
                <a:solidFill>
                  <a:srgbClr val="564b3c"/>
                </a:solidFill>
                <a:latin typeface="Arial"/>
                <a:ea typeface="ＭＳ ゴシック"/>
              </a:rPr>
              <a:t>’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 activ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doubles when a cell divid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2" name="Picture 4" descr="division"/>
          <p:cNvPicPr/>
          <p:nvPr/>
        </p:nvPicPr>
        <p:blipFill>
          <a:blip r:embed="rId1"/>
          <a:stretch/>
        </p:blipFill>
        <p:spPr>
          <a:xfrm>
            <a:off x="3048120" y="46483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Plant Cells vs Animal Cells:</a:t>
            </a:r>
            <a:br>
              <a:rPr sz="3600"/>
            </a:b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Similarities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nimal and plant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ell membranes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enclose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re filled with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ytoplasm,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a gel-like substance containing chemicals needed by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a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nucleu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her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DN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is stor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riboso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protein builders of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imilarities Continued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use oxygen to break down food and releas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kinds of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contain food, water, or waste products. (Animal cells usually have many more vacuoles than plant cells do.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A Few More Similarit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endoplasmic reticulu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where a system of tubes transports protei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Golgi bod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distribute proteins outside of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1" name="Picture 4" descr="MP900390197[1]"/>
          <p:cNvPicPr/>
          <p:nvPr/>
        </p:nvPicPr>
        <p:blipFill>
          <a:blip r:embed="rId1"/>
          <a:stretch/>
        </p:blipFill>
        <p:spPr>
          <a:xfrm>
            <a:off x="2819520" y="4114800"/>
            <a:ext cx="3657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ell wall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provide structure.  Animal cells do not have cell wa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photosynthesis, which is how they make their food/energy. Animal eat to get their energy, thus animal cells do not have chloropla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much larger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40382d"/>
                </a:solidFill>
                <a:latin typeface="Century Gothic"/>
              </a:rPr>
              <a:t>typically they have one large, central vacuole </a:t>
            </a:r>
            <a:r>
              <a:rPr b="0" i="1" lang="en-US" sz="2400" spc="-1" strike="noStrike">
                <a:solidFill>
                  <a:srgbClr val="4038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ne of the reasons plant cells have larger vacuoles is for structure and sup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s a vacuole is filled with water, the pressure inside pushes against the cell wall, help the plant to support it’s rigid structu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called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turgor pressur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3962520" y="4495680"/>
            <a:ext cx="4559040" cy="181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8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ifferences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 cells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energy production.  Plants primarily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produc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s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lysosomes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ut plant cells do no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get energy originally from the su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plant cells, chloroplasts trap light energy and change it into chemical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hemical energy is stored in bonds between atoms of carbon, hydrogen, and oxyge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continued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hemical bonds hold two or more atoms together to form molecules of sug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break down these molecules by breaking the chemical bond.  When the bonds are broken, energy is releas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can either use the energy or stor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itochondria in plant and animal cells use oxygen to release this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00:43Z</dcterms:created>
  <dc:creator>WSFCS Workstation</dc:creator>
  <dc:description/>
  <dc:language>en-US</dc:language>
  <cp:lastModifiedBy>Geneva Jost</cp:lastModifiedBy>
  <dcterms:modified xsi:type="dcterms:W3CDTF">2016-11-15T15:05:25Z</dcterms:modified>
  <cp:revision>9</cp:revision>
  <dc:subject/>
  <dc:title>Comparing Plant and Animal Cells</dc:title>
</cp:coreProperties>
</file>